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DB36-C229-46F7-A76E-4AF136116C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300-AEC0-49D6-A6D2-76F3F155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C93-A6FC-4B1F-98C1-F16608B7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C9C-EA96-4D20-88A6-7D2CDF12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1FB-4A6E-4C28-97AB-B719E01C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F40-9EFF-4F96-95A2-64B529C7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400-A369-4481-9A49-D511C1C6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C9D-87FD-43D3-AE5F-9C0C2B92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826-0D26-4158-855A-B9212C40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A1D-4C94-40A3-A61C-1EE83D20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AE1-4B37-4F45-B7BB-FB61C948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812-156B-4815-A923-579D1198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DAC-86D3-4A17-B0D6-A2CBDCD6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3505-4814-4042-9E6C-A10A60697A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5-09-15T11:00:12Z</dcterms:modified>
  <cp:revision>9</cp:revision>
  <dc:subject>England in 1060 hastings 1066</dc:subject>
  <dc:title>England in 1060 hastings 1066</dc:title>
</cp:coreProperties>
</file>